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EF5-4BA8-4F1E-A7A9-E96E0C6D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32A-01AC-4A9B-8FAD-06DEDC2C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7A8-178F-40D2-9BE6-E1F3CF09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40F-FF95-420D-939F-C3ABD87B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BD71D-9027-4593-B8CE-92F5F71E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B2D59-122F-4492-8000-EFD7F00E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63131-912F-4F9C-BC25-22997CF7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B716C-B5DD-4636-AC21-57985AB7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7823A-F8D6-47B6-BE50-A767787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59A8D-FD8F-456C-9F71-DC8F4FE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E0D66-379C-4D0F-90B7-8E4EB7AA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046-7769-449F-A25F-3015E1F5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EF397-6BF9-40F4-A14D-D3D3095C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11D5E-23AD-4A37-BD51-E495CB1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9D0D7-A848-4880-B1DB-1F7E56CF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990E5-E75F-41A6-8BAD-ACFC0D64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97EA7-3C60-41C4-9A2E-0483687A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12E-A61A-4942-9ED0-08ADAD32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10F-7DEB-4C91-9167-09E7823E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F52-54D1-4B84-AB1B-095BE26B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C50-1414-4D71-B900-C37AEA7B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28B-07AB-46D4-AC1B-D527E5F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93E-D501-47F4-8B8F-5101FF4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7B1-4861-44BE-B440-BF39899F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B7E6-7999-4F77-A1BB-89FE681F6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A3E9-F829-4A4F-8963-7C424265F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PECTIVES ON THE CIVIL RIGHTS MOV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ever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our Alex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Recep Ars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the Civil Rights Movement in Alabama by examining the causes, reactions, and eff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N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520" y="2514600"/>
            <a:ext cx="40388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tures of public transpor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re students experience with public transportation by having 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4476600" cy="323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28600" y="4419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tra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ptable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eo (cartoon about American Histo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youtube.com/watch?v=xieOPvWLji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ALYZING DOCU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&amp; Secondary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o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ito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y Soul is Re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O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urnal E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graph: Occupation, Living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grap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grap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urnal Entry pertaining to proposal of addressing today’s injus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20:24:22Z</dcterms:created>
  <dc:creator>Media User</dc:creator>
  <dc:description/>
  <dc:language>en-US</dc:language>
  <cp:lastModifiedBy> </cp:lastModifiedBy>
  <dcterms:modified xsi:type="dcterms:W3CDTF">2007-06-23T13:16:07Z</dcterms:modified>
  <cp:revision>4</cp:revision>
  <dc:subject/>
  <dc:title>Slide 1</dc:title>
</cp:coreProperties>
</file>